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FE3-D438-4FCC-A6BD-21DEA5DC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78D-7485-4E87-9313-5FF00392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AE7-57AB-4C06-8B27-E6FDEE0C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EF3-E87D-4169-A185-729168F9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817A-8C34-47CE-87C3-C8328A5F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50F8-EC16-4282-8D72-99108075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81B2-5688-4B03-82B3-D627484E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0D7B-35C8-45CD-869B-68ABEB54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262A-55CE-484F-82F3-05DD8147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7BF9-1AED-4D79-91CE-03A0F504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0372-9464-4CE0-95B7-AF2689DD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6A4-889D-4E5B-8157-43C566F3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F60D-E696-4E79-AECD-3A0D474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42E0-BFC8-4F23-90E2-10D70D2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97DE-330A-4895-A94D-791407BB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74C9-834E-49F8-8E1B-114E6E4E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F3EB-5792-4E98-B916-31139039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8BC-F355-44EE-BEBE-4C9E489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F92-6915-4753-BEF7-DBA56F18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79D-A382-440E-B5E6-E98CFFA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72B-B18B-48EF-AF4E-AE3AAD7D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DCE-0597-420C-BBA1-E0FC92BA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567-2257-4113-A0CA-15478B93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8EB-B85F-43B7-9D96-3B933180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5C59-5BC6-48B0-B464-751442C5A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EDDE-46D6-4890-BDC1-5CCEBB655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datbázis kezelés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Határozzuk meg, hogy témakörönként hány könyv, és milyen értékben található a könyvtárunkban?Adjuk meg a legnagyobb és a legkisebb értéket is!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adat megoldásához úgynevezett összesítő lekérdezést kell használn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összesítés sor megjelenítéséhez a nézet/összesítés menüpontot válassz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lábbi típusok közül lehet válasz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UM,AVG,MIN,MAX,COUNT,STDEV,VAR, FIRST,L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oldás: témakörönként csoportosítva (group by),leltári szám szerint megszámoljuk (count) az egyes kategóriába eső könyveket,összesítjük (sum) csoportonként a beszerzési árat,s meghatározzuk annak min. ill. maximum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Téma szerint lehessen a könyvtárban keresni, a téma megadása után kapjuk válaszul a megfelelő témájú könyvek listáját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oldás egyszer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ervezőrácsban a témakör mező feltételek sorában paramétert fogunk megad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araméter jelzése [ megjelenítendő szöveg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en esetben a feltéte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ike [Keresett témakö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ereszttáblás lekérdez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aink tömör megjelenítéséhez kereszttáblás lekérdezést használhat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élda: tekintsük át, hogy az egyes osztályokból hány olvasónk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k a varázsló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iktált sorrendben kell megadnunk a szükséges adat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ábla vál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r illetve  oszlopok értékeinke megad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kció lekérdezés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blakészítő lekérd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sősorban akkor használjuk, ha egy rész adathalmazra külön szükségünk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rlő lekérd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az adatok egy feltételekkel jól meghatározható részét törölni kivánj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rissítő lekérd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ól alkalmazható, ha az adatok egy részében szisztematikus változást kell végrehajtan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zzáfűző lekérd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s táblából akarunk importálni adatok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z adatfeldolgozás alapeszköz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kér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végeredményben egy egyszerű kérdés, mint pl. : „Mely témájú könyvek a legnépszerűbbek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letkező rekordok összessége az eredményhalmaz, mely a lekérdezés minden futtatásakor automatikusan friss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kérdezések létrehozá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y könyvek kölcsönzési határideje járt le, és azok melyik olvasónál található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ükséges lépés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Új lekérdezés objektum megnyi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y táblák, mely mezőire lesz szük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yen feltételeket kell alkalmaz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eni a kész lekérdezé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d futat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tbázis-ablak lekérdezések nézetében új lekér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ázslók vagy a tervező nézet, válasszuk az utób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k meg a szerepeltetni kívánt táblákat, hasonlóan, mint a kapcsolatokná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érdés megválaszolásához a „kölcsönzések”,”olvasók” és a „könyvek” táblára lesz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rvező nézet ablaka két részből á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ső részben a kiválasztott tábl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lsó rész tervező rácsán végezzük el a tényleges munk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zők kiválasztás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rvezőrács mező sorába kattintva, legördülő listából kiválasztjuk ő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gy a felső részből egérrel behúzzuk ő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következő mezőket kell kiválasztan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lcsönzések táblábó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lcsönzéskó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Olvasókó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eltáriszá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lcsönzésdaát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ejáratdát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isszadát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nyvek táblábó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z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Olvasok táblábó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ezetékné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eresztné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Évfoly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osztá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jelenítés sorban található kis négyzetek kipipálásával eldöntjük, hogy melyek adatait kívánjuk ténylegesen látni a lekérdezés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átra van még a feltételek megad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ttős feltételt kell alkalmaz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járatidátum legyen korábbi a mai dátumná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isszadátum legyen ü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tételek bev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fejezés szerkesztő használatá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a feltételek sor egy cellájára lépünk, akkor az ikonsor jobb oldalán egy ikon jelenik meg amivel el tudjuk ind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erkesztés után mentsük el a lekérdezést „lejárt határidejű könyvek” né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QL nézetben megnézhetjük a háttérben megbúvó sql lekérdezé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ladó lekérdezés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ámítások, összesítések lekérdezések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éter használata lekérdezések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eszttáblás lekér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ció lekérdez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9:45:26Z</dcterms:created>
  <dc:creator>Nagymáté Péter</dc:creator>
  <dc:description/>
  <dc:language>en-US</dc:language>
  <cp:lastModifiedBy>Nagymáté Péter</cp:lastModifiedBy>
  <dcterms:modified xsi:type="dcterms:W3CDTF">2004-01-15T11:46:56Z</dcterms:modified>
  <cp:revision>9</cp:revision>
  <dc:subject/>
  <dc:title>Adatbázis kezelés </dc:title>
</cp:coreProperties>
</file>